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13E4-C6E6-40A5-A0FA-C8D7FD16D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7B85-10E9-4C5F-A5F7-713BD66FF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37CA-A029-4198-A3EB-692E38742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task and debrief – 1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1885-55B8-48A6-8A6B-AE9D3F236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25 minutes – do you think this is enough?  Also, rather than have them write all the BI and expectations, lets have them code it someway to make it f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E2C9-0F89-4180-9EFD-590990DF0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ction – 115 minutes, split up by lu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5DC1-2781-48F0-8C3E-63EF30291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nsolidate – 3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95FC-57A9-4F80-9FC3-CB2392D40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B763-6740-4A46-B1F3-9005741F5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2885-847C-4B25-BE1B-F9280F71E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1261-13A6-4B84-BF8D-876354C27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brief with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task and debrief – 1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ote about follow-up with expectations and processes – just a reminder to include process expectations?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5541-D2E4-44E1-9C5F-14545505A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1E29-8FC0-43BC-AB45-C54F668FB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9569-7A1B-4F2C-81BA-795620BA6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D0F8-FED5-4832-9C14-B6134E53E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3C91-E959-49C6-A967-DCD9C1CD3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BE5F-A1A3-44E2-8F21-74E655A70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26E8-B4D9-44B0-87DE-707D8EFB3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FF86-691C-440E-B5EE-DF67BFF9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11EC-1C8A-4814-A429-6240B00B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D536-EB71-41F6-BB67-7C1549809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33A1-636E-4B8F-8ADF-3D3F1693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35B5-3447-435F-B1E1-00035278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CFBD-4CDE-4600-AEF6-9C6C1286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C79C-20F0-43DF-91EF-AF380911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F0EB-62D9-4CAC-8DCE-2BBABB3C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2535-10E0-4621-BF81-368A6066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B202-EAFA-4482-A401-2012668D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E0D1-96E4-4D0D-B918-EF6E9CD4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57A7-E043-49DD-B72A-86B7DDBD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DECF-261C-486D-85EE-B98D1415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CE9F-A94B-424E-859B-00286EC6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A505-A7F2-43F9-AF8C-BF81695F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7AFF-0C25-4C33-90A3-BFACE0429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2604-91D8-4CE7-B3ED-1AC8BE67F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1B41-DFF2-4590-B284-EEDB72EC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8387-92F0-49BC-B768-FD6372CC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EC3C-C3E0-44D0-B498-244446CE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68AC-4382-4C6F-B251-4611C776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C5A2-DD09-465A-A7A0-F7DE6755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893F-BB23-41FA-B2FB-657EFBA8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8244-07BB-424D-99AD-11BE0F0C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6654-4F8B-4BB3-95CA-AA0488196E2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95B4-CAE5-4139-81F7-B263633A9FE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Modelling in a </a:t>
            </a:r>
            <a:br>
              <a:rPr sz="4800"/>
            </a:b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Parallel Univ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3"/>
          <p:cNvSpPr/>
          <p:nvPr/>
        </p:nvSpPr>
        <p:spPr>
          <a:xfrm>
            <a:off x="357120" y="3000240"/>
            <a:ext cx="835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is activity addres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285840" y="1219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How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3571920" y="1246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Why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6715080" y="114804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5072040" y="4714920"/>
            <a:ext cx="40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big ide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28760" y="39445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lesson goa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6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125"/>
                            </p:stCondLst>
                            <p:childTnLst>
                              <p:par>
                                <p:cTn id="8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9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75"/>
                            </p:stCondLst>
                            <p:childTnLst>
                              <p:par>
                                <p:cTn id="11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2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900"/>
                            </p:stCondLst>
                            <p:childTnLst>
                              <p:par>
                                <p:cTn id="14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650"/>
                            </p:stCondLst>
                            <p:childTnLst>
                              <p:par>
                                <p:cTn id="20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50"/>
                            </p:stCondLst>
                            <p:childTnLst>
                              <p:par>
                                <p:cTn id="26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200"/>
                            </p:stCondLst>
                            <p:childTnLst>
                              <p:par>
                                <p:cTn id="3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3" dur="25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4" dur="25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" dur="25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700"/>
                            </p:stCondLst>
                            <p:childTnLst>
                              <p:par>
                                <p:cTn id="37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8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200"/>
                            </p:stCondLst>
                            <p:childTnLst>
                              <p:par>
                                <p:cTn id="4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3" dur="25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4" dur="25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" dur="25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700"/>
                            </p:stCondLst>
                            <p:childTnLst>
                              <p:par>
                                <p:cTn id="47" nodeType="afterEffect" fill="hold" presetClass="emph" presetID="15">
                                  <p:stCondLst>
                                    <p:cond delay="50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48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325"/>
                            </p:stCondLst>
                            <p:childTnLst>
                              <p:par>
                                <p:cTn id="50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51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1775"/>
                            </p:stCondLst>
                            <p:childTnLst>
                              <p:par>
                                <p:cTn id="53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54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3050"/>
                            </p:stCondLst>
                            <p:childTnLst>
                              <p:par>
                                <p:cTn id="56" nodeType="afterEffect" fill="hold" presetClass="emph" presetID="36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4300"/>
                            </p:stCondLst>
                            <p:childTnLst>
                              <p:par>
                                <p:cTn id="6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700"/>
                            </p:stCondLst>
                            <p:childTnLst>
                              <p:par>
                                <p:cTn id="68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6750"/>
                            </p:stCondLst>
                            <p:childTnLst>
                              <p:par>
                                <p:cTn id="74" nodeType="afterEffect" fill="hold" presetClass="emph" presetID="2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5" dur="25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6" dur="25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7" dur="25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7750"/>
                            </p:stCondLst>
                            <p:childTnLst>
                              <p:par>
                                <p:cTn id="79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0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1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8250"/>
                            </p:stCondLst>
                            <p:childTnLst>
                              <p:par>
                                <p:cTn id="84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5" dur="250" autoRev="1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6" dur="250" autoRev="1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" dur="250" autoRev="1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 – Parallel Tasks con’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lect one of the parallel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rm a group with others working on the same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plete the task by selecting one of the questions and then prompt each other using the follow-up questions pro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tch the parallel task to a big idea and then find all the expectations that are addressed by the two parallel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 – Parallel Task </a:t>
            </a:r>
            <a:br>
              <a:rPr sz="4400"/>
            </a:b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4 U 2 do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dentify one struggle from yesterday and the corresponding expectations that you would like to consider fur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d a like-minded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velop one parallel task as well as the follow-u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lgebra Til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&lt;&lt;need to develop the sequence for this&gt;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– Revisiting l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Join with another 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change parallel tasks for feedback, using the prob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suggestions on sticky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357120" y="3000240"/>
            <a:ext cx="835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is activity addres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285840" y="1219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How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3571920" y="1246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Why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6715080" y="114804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5072040" y="4714920"/>
            <a:ext cx="40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big ide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428760" y="39445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lesson goa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93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125"/>
                            </p:stCondLst>
                            <p:childTnLst>
                              <p:par>
                                <p:cTn id="95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96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75"/>
                            </p:stCondLst>
                            <p:childTnLst>
                              <p:par>
                                <p:cTn id="98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99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900"/>
                            </p:stCondLst>
                            <p:childTnLst>
                              <p:par>
                                <p:cTn id="101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650"/>
                            </p:stCondLst>
                            <p:childTnLst>
                              <p:par>
                                <p:cTn id="107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50"/>
                            </p:stCondLst>
                            <p:childTnLst>
                              <p:par>
                                <p:cTn id="11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200"/>
                            </p:stCondLst>
                            <p:childTnLst>
                              <p:par>
                                <p:cTn id="119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0" dur="25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1" dur="25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" dur="25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700"/>
                            </p:stCondLst>
                            <p:childTnLst>
                              <p:par>
                                <p:cTn id="124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5" dur="25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6" dur="25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" dur="25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200"/>
                            </p:stCondLst>
                            <p:childTnLst>
                              <p:par>
                                <p:cTn id="129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0" dur="25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1" dur="25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" dur="25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700"/>
                            </p:stCondLst>
                            <p:childTnLst>
                              <p:par>
                                <p:cTn id="134" nodeType="afterEffect" fill="hold" presetClass="emph" presetID="15">
                                  <p:stCondLst>
                                    <p:cond delay="50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35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325"/>
                            </p:stCondLst>
                            <p:childTnLst>
                              <p:par>
                                <p:cTn id="137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38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1775"/>
                            </p:stCondLst>
                            <p:childTnLst>
                              <p:par>
                                <p:cTn id="140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41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3050"/>
                            </p:stCondLst>
                            <p:childTnLst>
                              <p:par>
                                <p:cTn id="143" nodeType="afterEffect" fill="hold" presetClass="emph" presetID="36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4300"/>
                            </p:stCondLst>
                            <p:childTnLst>
                              <p:par>
                                <p:cTn id="14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700"/>
                            </p:stCondLst>
                            <p:childTnLst>
                              <p:par>
                                <p:cTn id="15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6750"/>
                            </p:stCondLst>
                            <p:childTnLst>
                              <p:par>
                                <p:cTn id="161" nodeType="afterEffect" fill="hold" presetClass="emph" presetID="2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2" dur="25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3" dur="25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4" dur="25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7750"/>
                            </p:stCondLst>
                            <p:childTnLst>
                              <p:par>
                                <p:cTn id="166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7" dur="25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8" dur="25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9" dur="25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8250"/>
                            </p:stCondLst>
                            <p:childTnLst>
                              <p:par>
                                <p:cTn id="171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2" dur="25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3" dur="25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4" dur="25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8" descr="C:\Users\Chili\AppData\Local\Microsoft\Windows\Temporary Internet Files\Content.IE5\BH9ZW7WV\MCj03963280000[1].wmf"/>
          <p:cNvPicPr/>
          <p:nvPr/>
        </p:nvPicPr>
        <p:blipFill>
          <a:blip r:embed="rId1"/>
          <a:srcRect l="25091" t="18386" r="64461" b="18386"/>
          <a:stretch/>
        </p:blipFill>
        <p:spPr>
          <a:xfrm>
            <a:off x="7358040" y="3429000"/>
            <a:ext cx="357120" cy="22147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– Exit Card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34" name="Picture 13" descr="C:\Users\Chili\AppData\Local\Microsoft\Windows\Temporary Internet Files\Content.IE5\X3U5RRU8\MMj03566040000[1].gif"/>
          <p:cNvPicPr/>
          <p:nvPr/>
        </p:nvPicPr>
        <p:blipFill>
          <a:blip r:embed="rId2"/>
          <a:stretch/>
        </p:blipFill>
        <p:spPr>
          <a:xfrm>
            <a:off x="4643280" y="3714840"/>
            <a:ext cx="1857600" cy="18572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4"/>
          <p:cNvSpPr/>
          <p:nvPr/>
        </p:nvSpPr>
        <p:spPr>
          <a:xfrm>
            <a:off x="785880" y="200016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lease fill in your exit card and hand it in to one of us as you leave!</a:t>
            </a:r>
            <a:r>
              <a:rPr b="0" lang="en-CA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8" descr="C:\Users\Chili\AppData\Local\Microsoft\Windows\Temporary Internet Files\Content.IE5\BH9ZW7WV\MCj03963280000[1].wmf"/>
          <p:cNvPicPr/>
          <p:nvPr/>
        </p:nvPicPr>
        <p:blipFill>
          <a:blip r:embed="rId3"/>
          <a:srcRect l="35579" t="18386" r="22630" b="10197"/>
          <a:stretch/>
        </p:blipFill>
        <p:spPr>
          <a:xfrm>
            <a:off x="7715160" y="3429000"/>
            <a:ext cx="1428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xit" presetID="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5" dur="5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actice posing parallel and open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ine understanding of how different representations of relationships highlight different characteristics or behaviours and can serve differen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light the importance of being conscious and explicit about instructional decisions; specifically, the exploration of differen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 – Paralle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57120" y="17856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termine the equation of a function with the following proper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71680" y="2928960"/>
          <a:ext cx="7358040" cy="2652840"/>
        </p:xfrm>
        <a:graphic>
          <a:graphicData uri="http://schemas.openxmlformats.org/drawingml/2006/table">
            <a:tbl>
              <a:tblPr/>
              <a:tblGrid>
                <a:gridCol w="3678120"/>
                <a:gridCol w="3679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132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dra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s through </a:t>
                      </a:r>
                      <a:br>
                        <a:rPr sz="2400"/>
                      </a:b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–1, 5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zeros 4 and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dra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s through </a:t>
                      </a:r>
                      <a:br>
                        <a:rPr sz="2400"/>
                      </a:b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–1, 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zeros            an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8" name="Object 4"/>
              <p:cNvSpPr txBox="1"/>
              <p:nvPr/>
            </p:nvSpPr>
            <p:spPr>
              <a:xfrm>
                <a:off x="6143760" y="4500720"/>
                <a:ext cx="973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5"/>
              <p:cNvSpPr txBox="1"/>
              <p:nvPr/>
            </p:nvSpPr>
            <p:spPr>
              <a:xfrm>
                <a:off x="4643280" y="4929120"/>
                <a:ext cx="9734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Did you draw a graph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Did you use algebr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Which did you do first?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Could you have predicted whether the ‘a’ value was positive or negative before you actually calculated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Is the value of ‘a’ what you expect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Expla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Did you need all three pieces of informat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Why? Or Why n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How did you determine the equ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How would the function change if the given point (-1, 5) changed to (-1, -5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C Chilvers</cp:lastModifiedBy>
  <dcterms:modified xsi:type="dcterms:W3CDTF">2009-08-01T18:43:04Z</dcterms:modified>
  <cp:revision>135</cp:revision>
  <dc:subject/>
  <dc:title>Slide 1</dc:title>
</cp:coreProperties>
</file>